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C4305-EBA1-4725-94E6-F87CC6778AB7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85A59-DA9D-43BC-A09A-49FCAB654A75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Θέση αριθμού διαφάνειας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AA6C0-AD7F-419A-856C-F67A8A43718E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E875E-6B29-4997-B05B-DAB828D2A459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Θέση αριθμού διαφάνειας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5C2FA-1F17-4DA3-A8A9-901AD6F7520E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95FA6-AE38-4CCC-B5BB-3FADA2DCA9EC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2EE5E-E199-4CD4-B065-F1C02625D0B6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C1632-FD5E-46FC-86E1-CFB7A807B3AB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Θέση αριθμού διαφάνειας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FD40C-0F3A-43DD-8461-0A1799147376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Θέση αριθμού διαφάνειας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5090A-2D6B-4F19-8C81-A642885AEC55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C6022-4985-44D6-8EDF-34AB61B6A113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F26E4-F44A-4964-B28E-CD5DDB7D9DD2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46B5D-9682-4D2B-81FB-BF481D7E2C9B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Θέση αριθμού διαφάνειας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7C3F5-13C2-42DF-A976-076DED86CB67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4F28F-38E7-42BA-A203-6DF6A033AFFD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Θέση αριθμού διαφάνειας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5A3C7-2876-4D96-9466-D365306CD7BE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61800-D147-465D-93F5-8DC18D8C4A5F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249A0-A201-4EE8-80A4-49A0BAF0FCEC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Θέση αριθμού διαφάνειας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48D06-B322-4761-BB81-7960FF7CD8FC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5B2A3-F7C2-4399-B34A-B943EA315BC1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8A0A4-EAC0-4EC9-917E-12691A183B9A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Θέση αριθμού διαφάνειας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936B2-D3FE-41D0-8DB3-08F777E9DDD7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D81BF-E930-4F45-987E-1CC3E6821762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Θέση αριθμού διαφάνειας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A2385-C527-49F9-992E-086B788B61B2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71ACA-4863-45C0-9D74-C3FAEB2EFFFD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60CDB-D023-4236-9C38-10B5CFB70823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Θέση αριθμού διαφάνειας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C1EB5-BE9C-4093-BEE6-3A13C35D112B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531E0-81E8-4786-BE6B-A803394D0A9E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7CDAB-9F50-4D33-956C-06130AAC88FA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DE7FC-2EBD-43AF-A92F-E69A6626EDF6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986BC-47FC-42EA-A779-758DB3C08706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4FCF2-478F-4A31-8F4C-88BD3FFB4EAD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4F02F-C125-4EF4-82B1-F94523F1B37B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81F36-0AE7-40C6-8CC7-68A8CCB9605C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Θέση αριθμού διαφάνειας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1D983-A0C8-468F-8453-04862CBD83A4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2F6A7-ABA9-4E89-94C6-222F94F44AA6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4018B-3F14-4F60-BB1A-C0B0AC6EF49A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5359A-19FF-4B6E-B2C2-6D01D07D2640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E50B3-A63B-40F3-AA18-92324E29247B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FFDF5-BF92-45C9-8639-9CF472F575AB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6B70E-E290-4951-A546-75487A2B2977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F6C9B-73E4-407E-BC1C-DEEF602B2310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4DFBE-BE8B-4AC8-84C5-F51C2B440257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Θέση αριθμού διαφάνειας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421A8-BEF5-4567-9500-283E122922D3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771F7-461F-4825-8B7B-A8AAEF9A5C05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Θέση αριθμού διαφάνειας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5E54F-1058-496A-8694-B0ED484DA7B5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C30C1-787D-434B-BF99-B41D3DDB01ED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55DD0-D8C3-4264-A739-EE0B88CFD00C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CEFAB-E8BF-4D93-9BA7-7C7CDAA9B35C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9E9C7-DDFF-4B9E-A07C-0D4BB86E54C0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AA287-C8ED-4E50-9BF1-DFE5B585CC16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3A5D0-4A06-4FD0-B242-A714E63F5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436FB-2979-4230-9A52-9EF5F4D82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2AFF0-E5A7-494E-9C73-E20F34E06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36D16-9535-4D26-8309-ADE93281B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96078-EC66-4048-A3EB-BD5CC2CF4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022AD-CB1C-4AFD-8BC0-D7251F00F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5C2C8-F112-4E83-8C2E-BBBBFC8C4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64BE5-439E-4646-B9EE-F6ECCE869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28DF4-EA08-4936-B9CF-C998EE355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6E237-00B3-4628-BAA6-ECF16B810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58F48-6C1F-493A-A896-97FDD2E4A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F99F7-2BB3-4DE8-B411-EA7FCAB05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E60EA-5B0E-4190-91E6-40A5A8101222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7724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l-GR" sz="40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24000" y="1773360"/>
            <a:ext cx="84960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400" spc="-1" strike="noStrike">
                <a:solidFill>
                  <a:srgbClr val="002060"/>
                </a:solidFill>
                <a:latin typeface="Arial"/>
              </a:rPr>
              <a:t>ΑΙΜΑΤΟΛΟΓΙΑ 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2060"/>
                </a:solidFill>
                <a:latin typeface="Arial"/>
              </a:rPr>
              <a:t>Χ. Ζηλίδη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400" spc="-1" strike="noStrike">
                <a:solidFill>
                  <a:srgbClr val="009999"/>
                </a:solidFill>
                <a:latin typeface="Arial"/>
              </a:rPr>
              <a:t>ΠΛΑΣΜ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324000" y="1052280"/>
            <a:ext cx="88200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2060"/>
                </a:solidFill>
                <a:latin typeface="Arial"/>
              </a:rPr>
              <a:t>Κύριο συστατικό του αίματος (55% του όγκου) Υποκίτρινο υγρ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2060"/>
                </a:solidFill>
                <a:latin typeface="Arial"/>
              </a:rPr>
              <a:t>Ιδια ιοντική σύσταση με το εξωκυττάριο υγρ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2060"/>
                </a:solidFill>
                <a:latin typeface="Arial"/>
              </a:rPr>
              <a:t>Αποτελείται από → 91.5%  νερ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2060"/>
                </a:solidFill>
                <a:latin typeface="Arial"/>
              </a:rPr>
              <a:t>                              →</a:t>
            </a:r>
            <a:r>
              <a:rPr b="0" lang="el-GR" sz="3200" spc="-1" strike="noStrike">
                <a:solidFill>
                  <a:srgbClr val="002060"/>
                </a:solidFill>
                <a:latin typeface="Arial"/>
              </a:rPr>
              <a:t>7% πρωτεΐνες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el-GR" sz="32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el-GR" sz="32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el-GR" sz="3200" spc="-1" strike="noStrike">
                <a:solidFill>
                  <a:srgbClr val="002060"/>
                </a:solidFill>
                <a:latin typeface="Arial"/>
              </a:rPr>
              <a:t>      →</a:t>
            </a:r>
            <a:r>
              <a:rPr b="0" lang="el-GR" sz="3200" spc="-1" strike="noStrike">
                <a:solidFill>
                  <a:srgbClr val="002060"/>
                </a:solidFill>
                <a:latin typeface="Arial"/>
              </a:rPr>
              <a:t>1.5% ορμόνες, βιταμίνες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2060"/>
                </a:solidFill>
                <a:latin typeface="Arial"/>
              </a:rPr>
              <a:t>                                   </a:t>
            </a:r>
            <a:r>
              <a:rPr b="0" lang="el-GR" sz="3200" spc="-1" strike="noStrike">
                <a:solidFill>
                  <a:srgbClr val="002060"/>
                </a:solidFill>
                <a:latin typeface="Arial"/>
              </a:rPr>
              <a:t>αναπνευστικά αέρια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2060"/>
                </a:solidFill>
                <a:latin typeface="Arial"/>
              </a:rPr>
              <a:t>                                   </a:t>
            </a:r>
            <a:r>
              <a:rPr b="0" lang="el-GR" sz="3200" spc="-1" strike="noStrike">
                <a:solidFill>
                  <a:srgbClr val="002060"/>
                </a:solidFill>
                <a:latin typeface="Arial"/>
              </a:rPr>
              <a:t>ηλεκτρολύτες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2060"/>
                </a:solidFill>
                <a:latin typeface="Arial"/>
              </a:rPr>
              <a:t>                                    </a:t>
            </a:r>
            <a:r>
              <a:rPr b="0" lang="el-GR" sz="3200" spc="-1" strike="noStrike">
                <a:solidFill>
                  <a:srgbClr val="002060"/>
                </a:solidFill>
                <a:latin typeface="Arial"/>
              </a:rPr>
              <a:t>αζωτούχες ουσίε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77240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9999"/>
                </a:solidFill>
                <a:latin typeface="Arial"/>
              </a:rPr>
              <a:t>ΣΥΣΤΑΤΙΚΑ ΤΟΥ ΠΛΑΣΜΑΤΟ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324000" y="1267920"/>
            <a:ext cx="84960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57120" indent="-271440">
              <a:spcBef>
                <a:spcPts val="64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cc3300"/>
                </a:solidFill>
                <a:latin typeface="Arial"/>
              </a:rPr>
              <a:t>Πρωτεϊνες (7%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   </a:t>
            </a:r>
            <a:r>
              <a:rPr b="1" lang="en-US" sz="26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  </a:t>
            </a:r>
            <a:r>
              <a:rPr b="1" lang="en-US" sz="2600" spc="-1" strike="noStrike">
                <a:solidFill>
                  <a:srgbClr val="002060"/>
                </a:solidFill>
                <a:latin typeface="Arial"/>
              </a:rPr>
              <a:t>  </a:t>
            </a: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- Αλβουμίνη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     </a:t>
            </a:r>
            <a:r>
              <a:rPr b="1" lang="en-US" sz="2600" spc="-1" strike="noStrike">
                <a:solidFill>
                  <a:srgbClr val="002060"/>
                </a:solidFill>
                <a:latin typeface="Arial"/>
              </a:rPr>
              <a:t>   </a:t>
            </a: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- Σφαιρίνε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  </a:t>
            </a:r>
            <a:r>
              <a:rPr b="1" lang="en-US" sz="26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  </a:t>
            </a:r>
            <a:r>
              <a:rPr b="1" lang="en-US" sz="2600" spc="-1" strike="noStrike">
                <a:solidFill>
                  <a:srgbClr val="002060"/>
                </a:solidFill>
                <a:latin typeface="Arial"/>
              </a:rPr>
              <a:t>  </a:t>
            </a: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- Ινωδογόνο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-271440">
              <a:spcBef>
                <a:spcPts val="64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cc3300"/>
                </a:solidFill>
                <a:latin typeface="Arial"/>
              </a:rPr>
              <a:t>Άλλες ουσίες (1,5%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        </a:t>
            </a: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- Ορμόνε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        </a:t>
            </a: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- Βιταμίνε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        </a:t>
            </a: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- Αναπνευστικά αέρια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        </a:t>
            </a: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- Αζωτούχες ενώσει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-271440">
              <a:spcBef>
                <a:spcPts val="64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cc3300"/>
                </a:solidFill>
                <a:latin typeface="Arial"/>
              </a:rPr>
              <a:t>Ηλεκτρολύτες (ιόντα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         </a:t>
            </a: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Εχει την ίδια σύσταση ιόντων με το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                                                          </a:t>
            </a: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εξωκυττάριο υγρ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0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009999"/>
                </a:solidFill>
                <a:latin typeface="Arial"/>
              </a:rPr>
              <a:t>ΣΥΣΤΑΤΙΚΑ ΤΟΥ ΑΙΜΑΤΟ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" descr=""/>
          <p:cNvPicPr/>
          <p:nvPr/>
        </p:nvPicPr>
        <p:blipFill>
          <a:blip r:embed="rId2"/>
          <a:stretch/>
        </p:blipFill>
        <p:spPr>
          <a:xfrm>
            <a:off x="762120" y="781200"/>
            <a:ext cx="7619760" cy="52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77240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9999"/>
                </a:solidFill>
                <a:latin typeface="Arial"/>
              </a:rPr>
              <a:t>ΑΛΒΟΥΜΙΝ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324000" y="1557360"/>
            <a:ext cx="84960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57120" indent="-27144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2060"/>
                </a:solidFill>
                <a:latin typeface="Arial"/>
              </a:rPr>
              <a:t>Είναι η πρωτεϊνη με την υψηλότερη συγκέντρωση στο πλάσμ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7120" indent="-27144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2060"/>
                </a:solidFill>
                <a:latin typeface="Arial"/>
              </a:rPr>
              <a:t>Συντίθεται στο ήπα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cc3300"/>
                </a:solidFill>
                <a:latin typeface="Arial"/>
              </a:rPr>
              <a:t>ΛΕΙΤΟΥΡΓΙΕ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7120" indent="-27144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2060"/>
                </a:solidFill>
                <a:latin typeface="Arial"/>
              </a:rPr>
              <a:t>Λειτουργεί ως πρωτεΐνη μεταφοράς για ορισμένες ουσίες με χαμηλή διαλυτότητα στο νερό (π.χ. χολερυθρίνη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7120" indent="-27144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2060"/>
                </a:solidFill>
                <a:latin typeface="Arial"/>
              </a:rPr>
              <a:t>Επηρεάζει την κολλοειδοσμωτική ισορροπί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71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55640" y="0"/>
            <a:ext cx="77724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9999"/>
                </a:solidFill>
                <a:latin typeface="Arial"/>
              </a:rPr>
              <a:t>ΣΦΑΙΡΙΝΕ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324000" y="1341360"/>
            <a:ext cx="849600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4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   </a:t>
            </a: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Είναι διαφορετικές ομάδες πρωτεϊνών, με σφαιρικό σχήμα μορίου (σφαιρίνες), οι οποίες επιτελούν διαφορετικές λειτουργίε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cc3300"/>
                </a:solidFill>
                <a:latin typeface="Arial"/>
              </a:rPr>
              <a:t>ΛΕΙΤΟΥΡΓΙΕ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2880" indent="-27144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Πρωτεϊνες μεταφοράς (π.χ. φεριτίνη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2880" indent="-27144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Παράγοντες πήξη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2880" indent="-27144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Σύστημα συμπληρώματο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2880" indent="-27144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Πρόδρομες ουσίες ορμονών (π.χ. αγγειοτενσινογόνο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2880" indent="-27144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γ-σφαιρίνες, δρουν σαν αντισώματ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77240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9999"/>
                </a:solidFill>
                <a:latin typeface="Arial"/>
              </a:rPr>
              <a:t>ΙΝΩΔΟΓΟΝ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24000" y="1773360"/>
            <a:ext cx="84960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57120" indent="-271440"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Είναι πρωτεϊνη που συμμετέχει στο μηχανισμό της πήξη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-271440"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Κατά τη διάρκεια της πήξης μετατρέπεται σε ινώδε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400" spc="-1" strike="noStrike">
                <a:solidFill>
                  <a:srgbClr val="009999"/>
                </a:solidFill>
                <a:latin typeface="Arial"/>
              </a:rPr>
              <a:t>ΕΜΜΟΡΦΑ ΣΥΣΤΑΤΙΚ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"/>
          <p:cNvPicPr/>
          <p:nvPr/>
        </p:nvPicPr>
        <p:blipFill>
          <a:blip r:embed="rId2"/>
          <a:stretch/>
        </p:blipFill>
        <p:spPr>
          <a:xfrm>
            <a:off x="1835280" y="1413000"/>
            <a:ext cx="5976720" cy="51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" descr=""/>
          <p:cNvPicPr/>
          <p:nvPr/>
        </p:nvPicPr>
        <p:blipFill>
          <a:blip r:embed="rId2"/>
          <a:stretch/>
        </p:blipFill>
        <p:spPr>
          <a:xfrm>
            <a:off x="163440" y="260280"/>
            <a:ext cx="8656560" cy="622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77240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9999"/>
                </a:solidFill>
                <a:latin typeface="Arial"/>
              </a:rPr>
              <a:t>ΚΥΤΤΑΡΑ ΤΟΥ ΑΙΜΑΤΟ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324000" y="1773360"/>
            <a:ext cx="849600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l-GR" sz="32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92" name="Picture 4" descr="5"/>
          <p:cNvPicPr/>
          <p:nvPr/>
        </p:nvPicPr>
        <p:blipFill>
          <a:blip r:embed="rId1"/>
          <a:stretch/>
        </p:blipFill>
        <p:spPr>
          <a:xfrm>
            <a:off x="324000" y="2565360"/>
            <a:ext cx="8640720" cy="27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77240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9999"/>
                </a:solidFill>
                <a:latin typeface="Arial"/>
              </a:rPr>
              <a:t>ΚΥΤΤΑΡΑ ΤΟΥ ΑΙΜΑΤΟ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324000" y="1773360"/>
            <a:ext cx="864072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-45720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 u="sng">
                <a:solidFill>
                  <a:srgbClr val="333399"/>
                </a:solidFill>
                <a:uFillTx/>
                <a:latin typeface="Arial"/>
              </a:rPr>
              <a:t>Ερυθροκύτταρα</a:t>
            </a:r>
            <a:r>
              <a:rPr b="1" lang="el-GR" sz="3200" spc="-1" strike="noStrike">
                <a:solidFill>
                  <a:srgbClr val="333399"/>
                </a:solidFill>
                <a:latin typeface="Arial"/>
              </a:rPr>
              <a:t> (ερυθρά αιμοσφαίρια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 u="sng">
                <a:solidFill>
                  <a:srgbClr val="333399"/>
                </a:solidFill>
                <a:uFillTx/>
                <a:latin typeface="Arial"/>
              </a:rPr>
              <a:t>Λευκοκύτταρα</a:t>
            </a:r>
            <a:r>
              <a:rPr b="1" lang="el-GR" sz="3200" spc="-1" strike="noStrike">
                <a:solidFill>
                  <a:srgbClr val="333399"/>
                </a:solidFill>
                <a:latin typeface="Arial"/>
              </a:rPr>
              <a:t> (λευκά αιμοσφαίρια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333399"/>
                </a:solidFill>
                <a:latin typeface="Arial"/>
              </a:rPr>
              <a:t>         </a:t>
            </a:r>
            <a:r>
              <a:rPr b="1" lang="el-GR" sz="3200" spc="-1" strike="noStrike">
                <a:solidFill>
                  <a:srgbClr val="333399"/>
                </a:solidFill>
                <a:latin typeface="Arial"/>
              </a:rPr>
              <a:t>- Πολυμορφοπύρηνα κοκκιοκύτταρα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333399"/>
                </a:solidFill>
                <a:latin typeface="Arial"/>
              </a:rPr>
              <a:t>                  </a:t>
            </a:r>
            <a:r>
              <a:rPr b="1" lang="el-GR" sz="2600" spc="-1" strike="noStrike">
                <a:solidFill>
                  <a:srgbClr val="333399"/>
                </a:solidFill>
                <a:latin typeface="Arial"/>
              </a:rPr>
              <a:t>(ουδετερόφιλα, βασεόφιλα, ηωσινόφιλα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333399"/>
                </a:solidFill>
                <a:latin typeface="Arial"/>
              </a:rPr>
              <a:t>         </a:t>
            </a:r>
            <a:r>
              <a:rPr b="1" lang="el-GR" sz="3200" spc="-1" strike="noStrike">
                <a:solidFill>
                  <a:srgbClr val="333399"/>
                </a:solidFill>
                <a:latin typeface="Arial"/>
              </a:rPr>
              <a:t>- Μονοκύτταρ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333399"/>
                </a:solidFill>
                <a:latin typeface="Arial"/>
              </a:rPr>
              <a:t>         </a:t>
            </a:r>
            <a:r>
              <a:rPr b="1" lang="el-GR" sz="3200" spc="-1" strike="noStrike">
                <a:solidFill>
                  <a:srgbClr val="333399"/>
                </a:solidFill>
                <a:latin typeface="Arial"/>
              </a:rPr>
              <a:t>- Λεμφοκύτταρ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 u="sng">
                <a:solidFill>
                  <a:srgbClr val="333399"/>
                </a:solidFill>
                <a:uFillTx/>
                <a:latin typeface="Arial"/>
              </a:rPr>
              <a:t>Αιμοπετάλι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8569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009999"/>
                </a:solidFill>
                <a:latin typeface="Arial"/>
              </a:rPr>
              <a:t>ΠΕΡΙΕΧΟΜΕΝΟ ΑΙΜΑΤΟΛΟΓΙΑΣ-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50560" y="1267920"/>
            <a:ext cx="8893080" cy="518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333399"/>
                </a:solidFill>
                <a:latin typeface="Arial"/>
              </a:rPr>
              <a:t>1. Το αίμα και τα συστατικά του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333399"/>
                </a:solidFill>
                <a:latin typeface="Arial"/>
              </a:rPr>
              <a:t>2. Αιμοποίηση – αιμοποιητικά όργανα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333399"/>
                </a:solidFill>
                <a:latin typeface="Arial"/>
              </a:rPr>
              <a:t>3. Ερυθρά αιμοσφαίρια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333399"/>
                </a:solidFill>
                <a:latin typeface="Arial"/>
              </a:rPr>
              <a:t>4. Αντιγονικά συστήματα ερυθρών - ομάδες αίματο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333399"/>
                </a:solidFill>
                <a:latin typeface="Arial"/>
              </a:rPr>
              <a:t>5. Μεταβολισμός σιδήρου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333399"/>
                </a:solidFill>
                <a:latin typeface="Arial"/>
              </a:rPr>
              <a:t>6. Σιδηροπενική αναιμία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333399"/>
                </a:solidFill>
                <a:latin typeface="Arial"/>
              </a:rPr>
              <a:t>7. Μεγαλοβλαστική αναιμία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333399"/>
                </a:solidFill>
                <a:latin typeface="Arial"/>
              </a:rPr>
              <a:t>8. Αιμολυτικές αναιμίε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333399"/>
                </a:solidFill>
                <a:latin typeface="Arial"/>
              </a:rPr>
              <a:t>9. Αιμοσφαιρινοπάθειες: Β-μεσογειακή αναιμία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333399"/>
                </a:solidFill>
                <a:latin typeface="Arial"/>
              </a:rPr>
              <a:t>10. Αιμοσφαιρινοπάθειες: Δρεπανοκυτταρική αναιμία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009999"/>
                </a:solidFill>
                <a:latin typeface="Arial"/>
              </a:rPr>
              <a:t>ΓΕΝΙΚΗ ΕΞΕΤΑΣΗ ΑΙΜΑΤΟ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2060"/>
                </a:solidFill>
                <a:latin typeface="Arial"/>
              </a:rPr>
              <a:t>Είναι η ποσοτική και αδρή μορφολογική μελέτη των έμμορφων συστατικών του αίματο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2060"/>
                </a:solidFill>
                <a:latin typeface="Arial"/>
              </a:rPr>
              <a:t>Η ποσοτική μελέτη αναφέρεται στην εκτίμηση του αριθμού κάθε κατηγορίας κυττάρων στη μονάδα του όγκο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55640" y="1052640"/>
            <a:ext cx="7772400" cy="129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9999"/>
                </a:solidFill>
                <a:latin typeface="Arial"/>
              </a:rPr>
              <a:t>ΕΡΥΘΡΟΚΥΤΤΑΡ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324000" y="2133360"/>
            <a:ext cx="8496000" cy="43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l-GR" sz="32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99" name="Picture 4" descr="2"/>
          <p:cNvPicPr/>
          <p:nvPr/>
        </p:nvPicPr>
        <p:blipFill>
          <a:blip r:embed="rId1"/>
          <a:stretch/>
        </p:blipFill>
        <p:spPr>
          <a:xfrm>
            <a:off x="1835280" y="2276640"/>
            <a:ext cx="5545080" cy="37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400" spc="-1" strike="noStrike">
                <a:solidFill>
                  <a:srgbClr val="009999"/>
                </a:solidFill>
                <a:latin typeface="Arial"/>
              </a:rPr>
              <a:t>ΕΡΥΘΡΟΚΥΤΤΑΡ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24000" y="1600200"/>
            <a:ext cx="8640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2060"/>
                </a:solidFill>
                <a:latin typeface="Arial"/>
              </a:rPr>
              <a:t>Είναι απύρηνα κύτταρ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2060"/>
                </a:solidFill>
                <a:latin typeface="Arial"/>
              </a:rPr>
              <a:t>Αποτελούν το 38-48% του πλήρους αίματος (τα πιο πολυάριθμα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2060"/>
                </a:solidFill>
                <a:latin typeface="Arial"/>
              </a:rPr>
              <a:t>Περιέχουν την αιμοσφαιρίνη (χαρακτηριστικό κόκκινο χρώμα του αίματος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2060"/>
                </a:solidFill>
                <a:latin typeface="Arial"/>
              </a:rPr>
              <a:t>Βασική αποστολή: μεταφορά οξυγόνου στους ιστού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2060"/>
                </a:solidFill>
                <a:latin typeface="Arial"/>
              </a:rPr>
              <a:t>Παράγονται στα αιμοποιητικά όργαν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2060"/>
                </a:solidFill>
                <a:latin typeface="Arial"/>
              </a:rPr>
              <a:t>Ζουν ~100-120 ημέρε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2060"/>
                </a:solidFill>
                <a:latin typeface="Arial"/>
              </a:rPr>
              <a:t>Σε ~20 sec διανύουν ένα “πλήρη κύκλο” στην κυκλοφορία του αίματο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7138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9999"/>
                </a:solidFill>
                <a:latin typeface="Arial"/>
              </a:rPr>
              <a:t>ΛΕΙΤΟΥΡΓΙΕΣ ΕΡΥΘΡΟΚΥΤΤΑΡΩ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324000" y="1557360"/>
            <a:ext cx="84960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714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333399"/>
                </a:solidFill>
                <a:latin typeface="Arial"/>
              </a:rPr>
              <a:t>Κύρια λειτουργία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14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14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333399"/>
                </a:solidFill>
                <a:latin typeface="Arial"/>
              </a:rPr>
              <a:t>Η μεταφορά Ο</a:t>
            </a:r>
            <a:r>
              <a:rPr b="1" lang="el-GR" sz="32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r>
              <a:rPr b="1" lang="el-GR" sz="3200" spc="-1" strike="noStrike">
                <a:solidFill>
                  <a:srgbClr val="333399"/>
                </a:solidFill>
                <a:latin typeface="Arial"/>
              </a:rPr>
              <a:t> στους ιστούς με την αιμοσφαιρίνη που περιέχου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14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14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333399"/>
                </a:solidFill>
                <a:latin typeface="Arial"/>
              </a:rPr>
              <a:t>Συμμετέχουν και στην απομάκρυνση του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CO</a:t>
            </a:r>
            <a:r>
              <a:rPr b="1" lang="en-US" sz="32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7138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400" spc="-1" strike="noStrike">
                <a:solidFill>
                  <a:srgbClr val="009999"/>
                </a:solidFill>
                <a:latin typeface="Arial"/>
              </a:rPr>
              <a:t>ΔΟΜΗ ΑΙΜΟΣΦΑΙΡΙΝΗ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324000" y="1267920"/>
            <a:ext cx="864072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71440" indent="-271440"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Αποτελείται από </a:t>
            </a:r>
            <a:r>
              <a:rPr b="1" lang="el-GR" sz="2600" spc="-1" strike="noStrike">
                <a:solidFill>
                  <a:srgbClr val="ff0000"/>
                </a:solidFill>
                <a:latin typeface="Arial"/>
              </a:rPr>
              <a:t>4 πεπτιδικές αλυσίδες </a:t>
            </a: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(σφαιρίνη), κάθε μια από τις οποίες συνδέεται με ένα μόριο </a:t>
            </a:r>
            <a:r>
              <a:rPr b="1" lang="el-GR" sz="2600" spc="-1" strike="noStrike">
                <a:solidFill>
                  <a:srgbClr val="ff0000"/>
                </a:solidFill>
                <a:latin typeface="Arial"/>
              </a:rPr>
              <a:t>αίμης</a:t>
            </a: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Η αίμη αποτελείται από ένα δακτύλιο </a:t>
            </a:r>
            <a:r>
              <a:rPr b="1" lang="el-GR" sz="2600" spc="-1" strike="noStrike">
                <a:solidFill>
                  <a:srgbClr val="ff0000"/>
                </a:solidFill>
                <a:latin typeface="Arial"/>
              </a:rPr>
              <a:t>πορφυρίνης</a:t>
            </a: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, στο κέντρο του οποίου υπάρχει ένα </a:t>
            </a:r>
            <a:r>
              <a:rPr b="1" lang="el-GR" sz="2600" spc="-1" strike="noStrike">
                <a:solidFill>
                  <a:srgbClr val="ff0000"/>
                </a:solidFill>
                <a:latin typeface="Arial"/>
              </a:rPr>
              <a:t>ιόν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Fe</a:t>
            </a:r>
            <a:r>
              <a:rPr b="1" lang="el-GR" sz="2600" spc="-1" strike="noStrike">
                <a:solidFill>
                  <a:srgbClr val="ff0000"/>
                </a:solidFill>
                <a:latin typeface="Arial"/>
              </a:rPr>
              <a:t>++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Ο αναστρέψιμος δεσμός του </a:t>
            </a:r>
            <a:r>
              <a:rPr b="1" lang="en-US" sz="2600" spc="-1" strike="noStrike">
                <a:solidFill>
                  <a:srgbClr val="002060"/>
                </a:solidFill>
                <a:latin typeface="Arial"/>
              </a:rPr>
              <a:t>Fe++</a:t>
            </a: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 με το Ο</a:t>
            </a:r>
            <a:r>
              <a:rPr b="1" lang="el-GR" sz="2600" spc="-1" strike="noStrike" baseline="-25000">
                <a:solidFill>
                  <a:srgbClr val="002060"/>
                </a:solidFill>
                <a:latin typeface="Arial"/>
              </a:rPr>
              <a:t>2</a:t>
            </a: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 συμμετέχει κατά 97% στη μεταφορά Ο</a:t>
            </a:r>
            <a:r>
              <a:rPr b="1" lang="el-GR" sz="2600" spc="-1" strike="noStrike" baseline="-25000">
                <a:solidFill>
                  <a:srgbClr val="002060"/>
                </a:solidFill>
                <a:latin typeface="Arial"/>
              </a:rPr>
              <a:t>2</a:t>
            </a: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144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"/>
          <p:cNvPicPr/>
          <p:nvPr/>
        </p:nvPicPr>
        <p:blipFill>
          <a:blip r:embed="rId1"/>
          <a:stretch/>
        </p:blipFill>
        <p:spPr>
          <a:xfrm>
            <a:off x="982800" y="1677960"/>
            <a:ext cx="7476840" cy="4343400"/>
          </a:xfrm>
          <a:prstGeom prst="rect">
            <a:avLst/>
          </a:prstGeom>
          <a:ln w="0">
            <a:noFill/>
          </a:ln>
        </p:spPr>
      </p:pic>
      <p:sp>
        <p:nvSpPr>
          <p:cNvPr id="107" name="Ορθογώνιο 1"/>
          <p:cNvSpPr/>
          <p:nvPr/>
        </p:nvSpPr>
        <p:spPr>
          <a:xfrm>
            <a:off x="324000" y="476280"/>
            <a:ext cx="82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009999"/>
                </a:solidFill>
                <a:latin typeface="Arial"/>
              </a:rPr>
              <a:t>ΔΟΜΗ ΤΗΣ ΑΙΜΟΣΦΑΙΡΙΝΗ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2"/>
          <p:cNvSpPr/>
          <p:nvPr/>
        </p:nvSpPr>
        <p:spPr>
          <a:xfrm>
            <a:off x="250920" y="260280"/>
            <a:ext cx="87138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009999"/>
                </a:solidFill>
                <a:latin typeface="Arial"/>
              </a:rPr>
              <a:t>ΔΟΜΗ ΤΗΣ ΑΙΜΟΣΦΑΙΡΙΝΗ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5" descr=""/>
          <p:cNvPicPr/>
          <p:nvPr/>
        </p:nvPicPr>
        <p:blipFill>
          <a:blip r:embed="rId1"/>
          <a:stretch/>
        </p:blipFill>
        <p:spPr>
          <a:xfrm>
            <a:off x="1547640" y="1022400"/>
            <a:ext cx="6193080" cy="55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9999"/>
                </a:solidFill>
                <a:latin typeface="Arial"/>
              </a:rPr>
              <a:t>ΦΥΣΙΟΛΟΓΙΚΕΣ ΤΙΜΕΣ ΕΡΥΘΡΩΝ ΚΑΙ ΑΙΜΟΣΦΑΙΡΙΝΗ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916280"/>
            <a:ext cx="843588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Αριθμός ερυθρών:  Α:  4,7</a:t>
            </a:r>
            <a:r>
              <a:rPr b="1" lang="en-US" sz="26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-</a:t>
            </a:r>
            <a:r>
              <a:rPr b="1" lang="en-US" sz="26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5,7 </a:t>
            </a:r>
            <a:r>
              <a:rPr b="1" lang="en-US" sz="2600" spc="-1" strike="noStrike">
                <a:solidFill>
                  <a:srgbClr val="002060"/>
                </a:solidFill>
                <a:latin typeface="Arial"/>
              </a:rPr>
              <a:t>x</a:t>
            </a: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 10</a:t>
            </a:r>
            <a:r>
              <a:rPr b="1" lang="el-GR" sz="2600" spc="-1" strike="noStrike" baseline="30000">
                <a:solidFill>
                  <a:srgbClr val="002060"/>
                </a:solidFill>
                <a:latin typeface="Arial"/>
              </a:rPr>
              <a:t>6</a:t>
            </a: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/</a:t>
            </a:r>
            <a:r>
              <a:rPr b="1" lang="en-US" sz="2600" spc="-1" strike="noStrike">
                <a:solidFill>
                  <a:srgbClr val="002060"/>
                </a:solidFill>
                <a:latin typeface="Arial"/>
              </a:rPr>
              <a:t>mm</a:t>
            </a:r>
            <a:r>
              <a:rPr b="1" lang="el-GR" sz="2600" spc="-1" strike="noStrike" baseline="30000">
                <a:solidFill>
                  <a:srgbClr val="002060"/>
                </a:solidFill>
                <a:latin typeface="Arial"/>
              </a:rPr>
              <a:t>3</a:t>
            </a: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 αίματο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                                     </a:t>
            </a: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Γ: </a:t>
            </a:r>
            <a:r>
              <a:rPr b="1" lang="en-US" sz="26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3,8</a:t>
            </a:r>
            <a:r>
              <a:rPr b="1" lang="en-US" sz="26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-</a:t>
            </a:r>
            <a:r>
              <a:rPr b="1" lang="en-US" sz="26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5,2 </a:t>
            </a:r>
            <a:r>
              <a:rPr b="1" lang="en-US" sz="2600" spc="-1" strike="noStrike">
                <a:solidFill>
                  <a:srgbClr val="002060"/>
                </a:solidFill>
                <a:latin typeface="Arial"/>
              </a:rPr>
              <a:t>x</a:t>
            </a: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 10</a:t>
            </a:r>
            <a:r>
              <a:rPr b="1" lang="el-GR" sz="2600" spc="-1" strike="noStrike" baseline="30000">
                <a:solidFill>
                  <a:srgbClr val="002060"/>
                </a:solidFill>
                <a:latin typeface="Arial"/>
              </a:rPr>
              <a:t>6</a:t>
            </a: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/</a:t>
            </a:r>
            <a:r>
              <a:rPr b="1" lang="en-US" sz="2600" spc="-1" strike="noStrike">
                <a:solidFill>
                  <a:srgbClr val="002060"/>
                </a:solidFill>
                <a:latin typeface="Arial"/>
              </a:rPr>
              <a:t>mm</a:t>
            </a:r>
            <a:r>
              <a:rPr b="1" lang="el-GR" sz="2600" spc="-1" strike="noStrike" baseline="30000">
                <a:solidFill>
                  <a:srgbClr val="002060"/>
                </a:solidFill>
                <a:latin typeface="Arial"/>
              </a:rPr>
              <a:t>3</a:t>
            </a: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 αίματος</a:t>
            </a:r>
            <a:r>
              <a:rPr b="1" lang="en-US" sz="26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ΦΤ αιμοσφαιρίνης: Α: 14-16 </a:t>
            </a:r>
            <a:r>
              <a:rPr b="1" lang="en-US" sz="2600" spc="-1" strike="noStrike">
                <a:solidFill>
                  <a:srgbClr val="002060"/>
                </a:solidFill>
                <a:latin typeface="Arial"/>
              </a:rPr>
              <a:t>gr/d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  </a:t>
            </a:r>
            <a:r>
              <a:rPr b="1" lang="en-US" sz="2600" spc="-1" strike="noStrike">
                <a:solidFill>
                  <a:srgbClr val="002060"/>
                </a:solidFill>
                <a:latin typeface="Arial"/>
              </a:rPr>
              <a:t>      </a:t>
            </a: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         </a:t>
            </a:r>
            <a:r>
              <a:rPr b="1" lang="en-US" sz="2600" spc="-1" strike="noStrike">
                <a:solidFill>
                  <a:srgbClr val="002060"/>
                </a:solidFill>
                <a:latin typeface="Arial"/>
              </a:rPr>
              <a:t>                   </a:t>
            </a: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Γ: 12-14 </a:t>
            </a:r>
            <a:r>
              <a:rPr b="1" lang="en-US" sz="2600" spc="-1" strike="noStrike">
                <a:solidFill>
                  <a:srgbClr val="002060"/>
                </a:solidFill>
                <a:latin typeface="Arial"/>
              </a:rPr>
              <a:t>gr/d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ΦΤ αιματοκρίτη:      Α: 42% - 52% (μ.ο. 47%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                                      </a:t>
            </a: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Γ: 37% - 47% (μ.ο. 42%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009999"/>
                </a:solidFill>
                <a:latin typeface="Arial"/>
              </a:rPr>
              <a:t>ΕΡΥΘΡΟΚΥΤΤΑΡΙΚΟΙ ΔΕΙΚΤΕ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2060"/>
                </a:solidFill>
                <a:latin typeface="Arial"/>
              </a:rPr>
              <a:t>Μέσος όγκος ερυθρών (</a:t>
            </a: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MCV)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[MCV=Ht/RBC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2060"/>
                </a:solidFill>
                <a:latin typeface="Arial"/>
              </a:rPr>
              <a:t>Μέση ανά ερυθροκύτταρο ποσότητα αιμοσφαιρίνης (</a:t>
            </a: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MCH)</a:t>
            </a:r>
            <a:r>
              <a:rPr b="0" lang="el-GR" sz="32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el-GR" sz="2400" spc="-1" strike="noStrike">
                <a:solidFill>
                  <a:srgbClr val="ff0000"/>
                </a:solidFill>
                <a:latin typeface="Arial"/>
              </a:rPr>
              <a:t>[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MCH=(Hgb*10)/RBC</a:t>
            </a:r>
            <a:r>
              <a:rPr b="0" lang="el-GR" sz="2400" spc="-1" strike="noStrike">
                <a:solidFill>
                  <a:srgbClr val="ff0000"/>
                </a:solidFill>
                <a:latin typeface="Arial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2060"/>
                </a:solidFill>
                <a:latin typeface="Arial"/>
              </a:rPr>
              <a:t>Μέση πυκνότητα ανά ερυθροκύτταρο αιμοσφαιρίνης (</a:t>
            </a: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MCHC)</a:t>
            </a:r>
            <a:r>
              <a:rPr b="0" lang="el-GR" sz="32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el-GR" sz="2400" spc="-1" strike="noStrike">
                <a:solidFill>
                  <a:srgbClr val="ff0000"/>
                </a:solidFill>
                <a:latin typeface="Arial"/>
              </a:rPr>
              <a:t>[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MCHC=Hgb/Ht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spcAft>
                <a:spcPts val="1199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2060"/>
                </a:solidFill>
                <a:latin typeface="Arial"/>
              </a:rPr>
              <a:t>Εύρος κατανομής όγκου ερυθρών (</a:t>
            </a: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RDW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[</a:t>
            </a:r>
            <a:r>
              <a:rPr b="0" lang="el-GR" sz="2400" spc="-1" strike="noStrike">
                <a:solidFill>
                  <a:srgbClr val="ff0000"/>
                </a:solidFill>
                <a:latin typeface="Arial"/>
              </a:rPr>
              <a:t>11.5-14.5 μ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m]      [RDW=SDmcv/Xmcv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Ευθεία γραμμή σύνδεσης 7"/>
          <p:cNvSpPr/>
          <p:nvPr/>
        </p:nvSpPr>
        <p:spPr>
          <a:xfrm>
            <a:off x="6443640" y="5589720"/>
            <a:ext cx="1443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009999"/>
                </a:solidFill>
                <a:latin typeface="Arial"/>
              </a:rPr>
              <a:t>ΠΑΡΑΓΩΓΗ ΕΡΥΘΡΟΚΥΤΤΑΡΩ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324000" y="1267920"/>
            <a:ext cx="849600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714240" indent="0">
              <a:spcBef>
                <a:spcPts val="64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 u="sng">
                <a:solidFill>
                  <a:srgbClr val="002060"/>
                </a:solidFill>
                <a:uFillTx/>
                <a:latin typeface="Arial"/>
              </a:rPr>
              <a:t>Στο έμβρυο</a:t>
            </a: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: Αρχίζει στον εμβρυϊκό σάκο και συνεχίζεται στο ήπαρ, στον σπλήνα και στους λεμφαδένε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714240" indent="0">
              <a:spcBef>
                <a:spcPts val="64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 u="sng">
                <a:solidFill>
                  <a:srgbClr val="002060"/>
                </a:solidFill>
                <a:uFillTx/>
                <a:latin typeface="Arial"/>
              </a:rPr>
              <a:t>Μετά τη γέννηση</a:t>
            </a: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: Περιορίζεται μόνο στο μυελό των οστών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714240" indent="0">
              <a:spcBef>
                <a:spcPts val="64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 u="sng">
                <a:solidFill>
                  <a:srgbClr val="002060"/>
                </a:solidFill>
                <a:uFillTx/>
                <a:latin typeface="Arial"/>
              </a:rPr>
              <a:t>Με την πρόοδο της ηλικίας</a:t>
            </a: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: Μειώνεται η παραγωγή στα μακρά οστά και διατηρείται μόνο στα μεμβρανώδη (σπόνδυλοι, πλευρές, λεκάνη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7142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Η εξωμυελική αιμοποίηση είναι ΠΑΝΤΟΤΕ παθολογική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009999"/>
                </a:solidFill>
                <a:latin typeface="Arial"/>
              </a:rPr>
              <a:t>ΒΙΒΛΙ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333399"/>
                </a:solidFill>
                <a:latin typeface="Arial"/>
              </a:rPr>
              <a:t>      </a:t>
            </a:r>
            <a:r>
              <a:rPr b="1" lang="el-GR" sz="3200" spc="-1" strike="noStrike">
                <a:solidFill>
                  <a:srgbClr val="333399"/>
                </a:solidFill>
                <a:latin typeface="Arial"/>
              </a:rPr>
              <a:t>Πρακτική Αιματολογία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333399"/>
                </a:solidFill>
                <a:latin typeface="Arial"/>
              </a:rPr>
              <a:t>                 </a:t>
            </a:r>
            <a:r>
              <a:rPr b="0" lang="el-GR" sz="3200" spc="-1" strike="noStrike">
                <a:solidFill>
                  <a:srgbClr val="333399"/>
                </a:solidFill>
                <a:latin typeface="Arial"/>
              </a:rPr>
              <a:t>Εκδ. Λαγός, 20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009999"/>
                </a:solidFill>
                <a:latin typeface="Arial"/>
              </a:rPr>
              <a:t>Εκπαιδευτικό υλικ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333399"/>
                </a:solidFill>
                <a:latin typeface="Arial"/>
              </a:rPr>
              <a:t>Όλες οι </a:t>
            </a:r>
            <a:r>
              <a:rPr b="1" lang="el-GR" sz="3200" spc="-1" strike="noStrike">
                <a:solidFill>
                  <a:srgbClr val="333399"/>
                </a:solidFill>
                <a:latin typeface="Arial"/>
              </a:rPr>
              <a:t>παρουσιάσεις των διαλέξεων </a:t>
            </a:r>
            <a:r>
              <a:rPr b="0" lang="el-GR" sz="3200" spc="-1" strike="noStrike">
                <a:solidFill>
                  <a:srgbClr val="333399"/>
                </a:solidFill>
                <a:latin typeface="Arial"/>
              </a:rPr>
              <a:t>βρίσκονται στο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e-cl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333399"/>
                </a:solidFill>
                <a:latin typeface="Arial"/>
              </a:rPr>
              <a:t>Χρησιμεύουν ως σημειώσεις του μαθήματο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Ορθογώνιο 3"/>
          <p:cNvSpPr/>
          <p:nvPr/>
        </p:nvSpPr>
        <p:spPr>
          <a:xfrm>
            <a:off x="611280" y="1557360"/>
            <a:ext cx="7848360" cy="151128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9999"/>
                </a:solidFill>
                <a:latin typeface="Arial"/>
              </a:rPr>
              <a:t>ΣΤΑΔΙΑ ΕΡΥΘΡΟΠΟΙΗΣΗ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179280" y="1052640"/>
            <a:ext cx="885672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2060"/>
                </a:solidFill>
                <a:latin typeface="Arial"/>
              </a:rPr>
              <a:t>Πολυδύναμα κύτταρα (</a:t>
            </a: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ste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2060"/>
                </a:solidFill>
                <a:latin typeface="Arial"/>
              </a:rPr>
              <a:t>Πολυδύναμα ερυθράς σειρά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500" spc="-1" strike="noStrike">
                <a:solidFill>
                  <a:srgbClr val="002060"/>
                </a:solidFill>
                <a:latin typeface="Arial"/>
              </a:rPr>
              <a:t>(προνορμοβλάστη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2060"/>
                </a:solidFill>
                <a:latin typeface="Arial"/>
              </a:rPr>
              <a:t>Νορμοβλάστε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(βασεόφιλη, πολυχρωματόφιλη, ορθοχρωματική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2060"/>
                </a:solidFill>
                <a:latin typeface="Arial"/>
              </a:rPr>
              <a:t>Δικτυοερυθροκύτταρ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2060"/>
                </a:solidFill>
                <a:latin typeface="Arial"/>
              </a:rPr>
              <a:t>Ερυθροκύτταρ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4"/>
          <p:cNvSpPr/>
          <p:nvPr/>
        </p:nvSpPr>
        <p:spPr>
          <a:xfrm>
            <a:off x="4500720" y="1700280"/>
            <a:ext cx="144360" cy="360360"/>
          </a:xfrm>
          <a:prstGeom prst="downArrow">
            <a:avLst>
              <a:gd name="adj1" fmla="val 50000"/>
              <a:gd name="adj2" fmla="val 3742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4"/>
          <p:cNvSpPr/>
          <p:nvPr/>
        </p:nvSpPr>
        <p:spPr>
          <a:xfrm>
            <a:off x="4500720" y="3068640"/>
            <a:ext cx="142560" cy="360360"/>
          </a:xfrm>
          <a:prstGeom prst="downArrow">
            <a:avLst>
              <a:gd name="adj1" fmla="val 50000"/>
              <a:gd name="adj2" fmla="val 3789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4"/>
          <p:cNvSpPr/>
          <p:nvPr/>
        </p:nvSpPr>
        <p:spPr>
          <a:xfrm>
            <a:off x="4500720" y="4437000"/>
            <a:ext cx="142560" cy="360360"/>
          </a:xfrm>
          <a:prstGeom prst="downArrow">
            <a:avLst>
              <a:gd name="adj1" fmla="val 50000"/>
              <a:gd name="adj2" fmla="val 3789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4"/>
          <p:cNvSpPr/>
          <p:nvPr/>
        </p:nvSpPr>
        <p:spPr>
          <a:xfrm>
            <a:off x="4500720" y="5373720"/>
            <a:ext cx="142560" cy="358920"/>
          </a:xfrm>
          <a:prstGeom prst="downArrow">
            <a:avLst>
              <a:gd name="adj1" fmla="val 50000"/>
              <a:gd name="adj2" fmla="val 3774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400" spc="-1" strike="noStrike">
                <a:solidFill>
                  <a:srgbClr val="009999"/>
                </a:solidFill>
                <a:latin typeface="Arial"/>
              </a:rPr>
              <a:t>ΠΑΡΑΓΩΓΗ ΕΡΥΘΡΩ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5" descr=""/>
          <p:cNvPicPr/>
          <p:nvPr/>
        </p:nvPicPr>
        <p:blipFill>
          <a:blip r:embed="rId1"/>
          <a:stretch/>
        </p:blipFill>
        <p:spPr>
          <a:xfrm>
            <a:off x="468360" y="1628640"/>
            <a:ext cx="8351640" cy="283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87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009999"/>
                </a:solidFill>
                <a:latin typeface="Arial"/>
              </a:rPr>
              <a:t>ΔΙΑΦΟΡΟΠΟΙΗΣΗ ΕΡΥΘΡΗΣ ΣΕΙΡΑ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197000"/>
            <a:ext cx="850752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2060"/>
                </a:solidFill>
                <a:latin typeface="Arial"/>
              </a:rPr>
              <a:t>Μιτωτικές διαιρέσεις μέχρι το στάδιο του πολυχρωματικού ερυθροβλάστη, με σύγχρονη ωρίμαν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A</a:t>
            </a:r>
            <a:r>
              <a:rPr b="0" lang="el-GR" sz="3200" spc="-1" strike="noStrike">
                <a:solidFill>
                  <a:srgbClr val="002060"/>
                </a:solidFill>
                <a:latin typeface="Arial"/>
              </a:rPr>
              <a:t>υξητικός παράγων: Ερυθροποιητίνη (Ε</a:t>
            </a: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PO</a:t>
            </a:r>
            <a:r>
              <a:rPr b="0" lang="el-GR" sz="3200" spc="-1" strike="noStrike">
                <a:solidFill>
                  <a:srgbClr val="00206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2060"/>
                </a:solidFill>
                <a:latin typeface="Arial"/>
              </a:rPr>
              <a:t>Αναλογία στο μυελό ~17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2060"/>
                </a:solidFill>
                <a:latin typeface="Arial"/>
              </a:rPr>
              <a:t>Καθημερινά παράγονται περί τα 2,5x109 ανά kg ΣΒ ερυθροκύτταρ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9999"/>
                </a:solidFill>
                <a:latin typeface="Arial"/>
              </a:rPr>
              <a:t>ΚΥΤΤΑΡΑ ΣΤΟ ΑΙΜ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324000" y="1052640"/>
            <a:ext cx="849600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571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Στο αίμα υπάρχουν μόνο ερυθροκύτταρα (98%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2060"/>
                </a:solidFill>
                <a:latin typeface="Arial"/>
              </a:rPr>
              <a:t>   </a:t>
            </a: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και</a:t>
            </a:r>
            <a:r>
              <a:rPr b="1" lang="en-US" sz="26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δικτυοερυθροκύτταρα (2%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Τα δικτυοερυθροκύτταρα αυξάνουν όταν υπάρχει ταχεία παραγωγή ερυθρών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Τα ώριμα ερυθρά παίρνουν τη μορφή του αμφίκοιλου δίσκου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77240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9999"/>
                </a:solidFill>
                <a:latin typeface="Arial"/>
              </a:rPr>
              <a:t>ΣΧΗΜΑ ΕΡΥΘΡΟΚΥΤΤΑΡΩ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324000" y="1773360"/>
            <a:ext cx="84960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Τα ώριμα ερυθρά παίρνουν τη μορφή του αμφίκοιλου δίσκου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4" descr="2"/>
          <p:cNvPicPr/>
          <p:nvPr/>
        </p:nvPicPr>
        <p:blipFill>
          <a:blip r:embed="rId1"/>
          <a:stretch/>
        </p:blipFill>
        <p:spPr>
          <a:xfrm>
            <a:off x="1619280" y="1341360"/>
            <a:ext cx="6215040" cy="416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009999"/>
                </a:solidFill>
                <a:latin typeface="Arial"/>
              </a:rPr>
              <a:t>ΕΛΕΓΧΟΣ ΠΑΡΑΓΩΓΗΣ ΕΡΥΘΡΩΝ: ΕΡΥΘΡΟΠΟΙΗΤΙΝ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Η παραγωγή ερυθρών ελέγχεται από την ορμόνη </a:t>
            </a:r>
            <a:r>
              <a:rPr b="1" lang="el-GR" sz="2600" spc="-1" strike="noStrike">
                <a:solidFill>
                  <a:srgbClr val="ff0000"/>
                </a:solidFill>
                <a:latin typeface="Arial"/>
              </a:rPr>
              <a:t>ερυθροποιητίνη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Η ερυθροποιητίνη παράγεται στους νεφρούς (Έτσι, σε νεφρική ανεπάρκεια έχουμε αναιμία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Δρα στο μυελό των οστών, αυξάνοντας την παραγωγή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"/>
          <p:cNvPicPr/>
          <p:nvPr/>
        </p:nvPicPr>
        <p:blipFill>
          <a:blip r:embed="rId1"/>
          <a:stretch/>
        </p:blipFill>
        <p:spPr>
          <a:xfrm>
            <a:off x="1214280" y="1233360"/>
            <a:ext cx="6996240" cy="505332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2"/>
          <p:cNvSpPr/>
          <p:nvPr/>
        </p:nvSpPr>
        <p:spPr>
          <a:xfrm>
            <a:off x="430200" y="209520"/>
            <a:ext cx="86425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009999"/>
                </a:solidFill>
                <a:latin typeface="Arial"/>
              </a:rPr>
              <a:t>ΡΥΘΜΙΣΗ ΠΑΡΑΓΩΓΗΣ ΕΡΥΘΡΩ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4216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009999"/>
                </a:solidFill>
                <a:latin typeface="Arial"/>
              </a:rPr>
              <a:t>ΡΥΘΜΙΣΗ ΠΑΡΑΓΩΓΗΣ ΕΡΥΘΡΩ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324000" y="1773360"/>
            <a:ext cx="849600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l-GR" sz="32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39" name="Picture 4" descr="4"/>
          <p:cNvPicPr/>
          <p:nvPr/>
        </p:nvPicPr>
        <p:blipFill>
          <a:blip r:embed="rId1"/>
          <a:stretch/>
        </p:blipFill>
        <p:spPr>
          <a:xfrm>
            <a:off x="2755800" y="765000"/>
            <a:ext cx="4154760" cy="609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77240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009999"/>
                </a:solidFill>
                <a:latin typeface="Arial"/>
              </a:rPr>
              <a:t>ΤΡΟΦΙΚΕΣ ΑΠΑΙΤΗΣΕΙΣ ΓΙΑ ΤΗΝ ΠΑΡΑΓΩΓΗ ΕΡΥΘΡΟΚΥΤΤΑΡΩ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1042560" y="1988640"/>
            <a:ext cx="777708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spcBef>
                <a:spcPts val="799"/>
              </a:spcBef>
              <a:buClr>
                <a:srgbClr val="a227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a22700"/>
                </a:solidFill>
                <a:latin typeface="Arial"/>
              </a:rPr>
              <a:t>Βιταμίνη Β12 (κυανοκοβαλαμίνη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a227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a22700"/>
                </a:solidFill>
                <a:latin typeface="Arial"/>
              </a:rPr>
              <a:t>Φυλλικό οξ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a227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a22700"/>
                </a:solidFill>
                <a:latin typeface="Arial"/>
              </a:rPr>
              <a:t>Σίδηρο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7724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9999"/>
                </a:solidFill>
                <a:latin typeface="Arial"/>
              </a:rPr>
              <a:t>Β</a:t>
            </a:r>
            <a:r>
              <a:rPr b="1" lang="el-GR" sz="4000" spc="-1" strike="noStrike" baseline="-25000">
                <a:solidFill>
                  <a:srgbClr val="009999"/>
                </a:solidFill>
                <a:latin typeface="Arial"/>
              </a:rPr>
              <a:t>1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250560" y="1125360"/>
            <a:ext cx="889308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lnSpc>
                <a:spcPct val="90000"/>
              </a:lnSpc>
              <a:spcBef>
                <a:spcPts val="649"/>
              </a:spcBef>
              <a:spcAft>
                <a:spcPts val="1199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Μειωμένα επίπεδα Β</a:t>
            </a:r>
            <a:r>
              <a:rPr b="1" lang="el-GR" sz="2600" spc="-1" strike="noStrike" baseline="-25000">
                <a:solidFill>
                  <a:srgbClr val="002060"/>
                </a:solidFill>
                <a:latin typeface="Arial"/>
              </a:rPr>
              <a:t>12</a:t>
            </a: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 και φυλλικού οξέος επηρεάζουν την διαίρεση και ωρίμανση των κυττάρων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spcAft>
                <a:spcPts val="1199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Παρατηρείται μείωση του αριθμού ερυθρών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spcAft>
                <a:spcPts val="1199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Μείωση ολικής ποσότητας αιμοσφαιρίνης, (χωρίς πρόβλημα στη σύνθεση της αιμοσφαιρίνης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spcAft>
                <a:spcPts val="1199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Παράγονται μεγάλα ανώμαλα ερυθρά, τα μακροκύτταρα (</a:t>
            </a:r>
            <a:r>
              <a:rPr b="1" lang="el-GR" sz="2600" spc="-1" strike="noStrike">
                <a:solidFill>
                  <a:srgbClr val="ff0000"/>
                </a:solidFill>
                <a:latin typeface="Arial"/>
              </a:rPr>
              <a:t>μακροκυτταρική </a:t>
            </a: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αναιμία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spcAft>
                <a:spcPts val="1199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Στο μυελό υπάρχουν πρόδρομες μορφές ερυθρών, οι μακροβλάστες (</a:t>
            </a:r>
            <a:r>
              <a:rPr b="1" lang="el-GR" sz="2600" spc="-1" strike="noStrike">
                <a:solidFill>
                  <a:srgbClr val="ff0000"/>
                </a:solidFill>
                <a:latin typeface="Arial"/>
              </a:rPr>
              <a:t>μεγαλοβλαστική </a:t>
            </a: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αναιμία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9999"/>
                </a:solidFill>
                <a:latin typeface="Arial"/>
              </a:rPr>
              <a:t>ΤΟ ΑΙΜ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" descr=""/>
          <p:cNvPicPr/>
          <p:nvPr/>
        </p:nvPicPr>
        <p:blipFill>
          <a:blip r:embed="rId2"/>
          <a:stretch/>
        </p:blipFill>
        <p:spPr>
          <a:xfrm>
            <a:off x="1187280" y="1628640"/>
            <a:ext cx="650088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009999"/>
                </a:solidFill>
                <a:latin typeface="Arial"/>
              </a:rPr>
              <a:t>ΑΙΤΙΕΣ ΕΛΛΕΙΨΗΣ Β</a:t>
            </a:r>
            <a:r>
              <a:rPr b="1" lang="el-GR" sz="3600" spc="-1" strike="noStrike" baseline="-25000">
                <a:solidFill>
                  <a:srgbClr val="009999"/>
                </a:solidFill>
                <a:latin typeface="Arial"/>
              </a:rPr>
              <a:t>12</a:t>
            </a:r>
            <a:r>
              <a:rPr b="1" lang="el-GR" sz="3600" spc="-1" strike="noStrike">
                <a:solidFill>
                  <a:srgbClr val="009999"/>
                </a:solidFill>
                <a:latin typeface="Arial"/>
              </a:rPr>
              <a:t> &amp; ΦΟΛΙΚΟ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78544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49"/>
              </a:spcBef>
              <a:spcAft>
                <a:spcPts val="1199"/>
              </a:spcAft>
              <a:buClr>
                <a:srgbClr val="00206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 u="sng">
                <a:solidFill>
                  <a:srgbClr val="002060"/>
                </a:solidFill>
                <a:uFillTx/>
                <a:latin typeface="Arial"/>
              </a:rPr>
              <a:t>Ανεπαρκής πρόσληψη </a:t>
            </a:r>
            <a:r>
              <a:rPr b="0" lang="el-GR" sz="2600" spc="-1" strike="noStrike">
                <a:solidFill>
                  <a:srgbClr val="002060"/>
                </a:solidFill>
                <a:latin typeface="Arial"/>
              </a:rPr>
              <a:t>από τις τροφές (ζωικών τροφίμων και πράσινων λαχανικών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49"/>
              </a:spcBef>
              <a:spcAft>
                <a:spcPts val="1199"/>
              </a:spcAft>
              <a:buClr>
                <a:srgbClr val="00206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 u="sng">
                <a:solidFill>
                  <a:srgbClr val="002060"/>
                </a:solidFill>
                <a:uFillTx/>
                <a:latin typeface="Arial"/>
              </a:rPr>
              <a:t>Μειωμένη απορρόφηση </a:t>
            </a:r>
            <a:r>
              <a:rPr b="0" lang="el-GR" sz="2600" spc="-1" strike="noStrike">
                <a:solidFill>
                  <a:srgbClr val="002060"/>
                </a:solidFill>
                <a:latin typeface="Arial"/>
              </a:rPr>
              <a:t>Β</a:t>
            </a:r>
            <a:r>
              <a:rPr b="0" lang="el-GR" sz="2600" spc="-1" strike="noStrike" baseline="-25000">
                <a:solidFill>
                  <a:srgbClr val="002060"/>
                </a:solidFill>
                <a:latin typeface="Arial"/>
              </a:rPr>
              <a:t>12</a:t>
            </a:r>
            <a:r>
              <a:rPr b="0" lang="el-GR" sz="2600" spc="-1" strike="noStrike">
                <a:solidFill>
                  <a:srgbClr val="002060"/>
                </a:solidFill>
                <a:latin typeface="Arial"/>
              </a:rPr>
              <a:t>, λόγω μειωμένης παραγωγής ενδογενούς παράγοντα από το στομάχι (συνδέεται με τη Β</a:t>
            </a:r>
            <a:r>
              <a:rPr b="0" lang="el-GR" sz="2600" spc="-1" strike="noStrike" baseline="-25000">
                <a:solidFill>
                  <a:srgbClr val="002060"/>
                </a:solidFill>
                <a:latin typeface="Arial"/>
              </a:rPr>
              <a:t>12</a:t>
            </a:r>
            <a:r>
              <a:rPr b="0" lang="el-GR" sz="2600" spc="-1" strike="noStrike">
                <a:solidFill>
                  <a:srgbClr val="002060"/>
                </a:solidFill>
                <a:latin typeface="Arial"/>
              </a:rPr>
              <a:t> και το σύμπλεγμα απορροφάται από τον ειλεό)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4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el-GR" sz="2600" spc="-1" strike="noStrike">
                <a:solidFill>
                  <a:srgbClr val="002060"/>
                </a:solidFill>
                <a:latin typeface="Arial"/>
              </a:rPr>
              <a:t>     </a:t>
            </a:r>
            <a:r>
              <a:rPr b="0" lang="el-GR" sz="2600" spc="-1" strike="noStrike">
                <a:solidFill>
                  <a:srgbClr val="002060"/>
                </a:solidFill>
                <a:latin typeface="Arial"/>
              </a:rPr>
              <a:t>Η Β</a:t>
            </a:r>
            <a:r>
              <a:rPr b="0" lang="el-GR" sz="2600" spc="-1" strike="noStrike" baseline="-25000">
                <a:solidFill>
                  <a:srgbClr val="002060"/>
                </a:solidFill>
                <a:latin typeface="Arial"/>
              </a:rPr>
              <a:t>12</a:t>
            </a:r>
            <a:r>
              <a:rPr b="0" lang="el-GR" sz="2600" spc="-1" strike="noStrike">
                <a:solidFill>
                  <a:srgbClr val="002060"/>
                </a:solidFill>
                <a:latin typeface="Arial"/>
              </a:rPr>
              <a:t> αποθηκεύεται στο ήπαρ για 1-2 χρόνια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009999"/>
                </a:solidFill>
                <a:latin typeface="Arial"/>
              </a:rPr>
              <a:t>ΚΑΚΟΗΘΗΣ ΑΝΑΙΜΙ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95280" y="1600200"/>
            <a:ext cx="8569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spcAft>
                <a:spcPts val="1199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2060"/>
                </a:solidFill>
                <a:latin typeface="Arial"/>
              </a:rPr>
              <a:t>Ελαττωμένη έκκριση ενδογενούς παράγοντα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spcAft>
                <a:spcPts val="1199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2060"/>
                </a:solidFill>
                <a:latin typeface="Arial"/>
              </a:rPr>
              <a:t>Μείωση απορρόφησης Β</a:t>
            </a:r>
            <a:r>
              <a:rPr b="0" lang="el-GR" sz="2600" spc="-1" strike="noStrike" baseline="-25000">
                <a:solidFill>
                  <a:srgbClr val="002060"/>
                </a:solidFill>
                <a:latin typeface="Arial"/>
              </a:rPr>
              <a:t>1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spcAft>
                <a:spcPts val="1199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2060"/>
                </a:solidFill>
                <a:latin typeface="Arial"/>
              </a:rPr>
              <a:t>Μεγαλοβλαστική και μακροκυτταρική αναιμία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spcAft>
                <a:spcPts val="1199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2060"/>
                </a:solidFill>
                <a:latin typeface="Arial"/>
              </a:rPr>
              <a:t>Αυξημένη παραγωγή χολερυθρίνης λόγω αιμόλυσης των ανώμαλων ερυθρών (ίκτερος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009999"/>
                </a:solidFill>
                <a:latin typeface="Arial"/>
              </a:rPr>
              <a:t>ΣΙΔΗΡΟ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85694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Σε ανεπαρκή πρόσληψη σιδήρου, περιορίζεται η σύνθεση της αιμοσφαιρίνης      αναιμία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Τα ερυθρά είναι υπόχρωμα και μικρότερα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    </a:t>
            </a: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(</a:t>
            </a:r>
            <a:r>
              <a:rPr b="1" lang="el-GR" sz="2600" spc="-1" strike="noStrike">
                <a:solidFill>
                  <a:srgbClr val="ff0000"/>
                </a:solidFill>
                <a:latin typeface="Arial"/>
              </a:rPr>
              <a:t>υπόχρωμη μικροκυτταρική </a:t>
            </a: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αναιμία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Αιτίες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   </a:t>
            </a: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(α) Μειωμένη πρόσληψη ή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   </a:t>
            </a: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(β) αυξημένη απώλεια (π.χ. σε χρόνια αιμορραγία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4"/>
          <p:cNvSpPr/>
          <p:nvPr/>
        </p:nvSpPr>
        <p:spPr>
          <a:xfrm>
            <a:off x="5291280" y="198900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009999"/>
                </a:solidFill>
                <a:latin typeface="Arial"/>
              </a:rPr>
              <a:t>ΣΙΔΗΡΟ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0" y="765000"/>
            <a:ext cx="896472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26"/>
              </a:spcBef>
              <a:buClr>
                <a:srgbClr val="a227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a22700"/>
                </a:solidFill>
                <a:latin typeface="Arial"/>
              </a:rPr>
              <a:t>Πρόσληψη:</a:t>
            </a:r>
            <a:r>
              <a:rPr b="1" lang="el-GR" sz="2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Η μέση διατροφή έχει 10-15 </a:t>
            </a:r>
            <a:r>
              <a:rPr b="1" lang="en-US" sz="2600" spc="-1" strike="noStrike">
                <a:solidFill>
                  <a:srgbClr val="002060"/>
                </a:solidFill>
                <a:latin typeface="Arial"/>
              </a:rPr>
              <a:t>mg</a:t>
            </a: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/μέρα και απορροφάται το 10%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26"/>
              </a:spcBef>
              <a:buClr>
                <a:srgbClr val="a227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a22700"/>
                </a:solidFill>
                <a:latin typeface="Arial"/>
              </a:rPr>
              <a:t>Απώλειες:</a:t>
            </a:r>
            <a:r>
              <a:rPr b="1" lang="el-GR" sz="2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Οι άνδρες χάνουν 1 </a:t>
            </a:r>
            <a:r>
              <a:rPr b="1" lang="en-US" sz="2600" spc="-1" strike="noStrike">
                <a:solidFill>
                  <a:srgbClr val="002060"/>
                </a:solidFill>
                <a:latin typeface="Arial"/>
              </a:rPr>
              <a:t>mg/</a:t>
            </a: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μέρα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2060"/>
                </a:solidFill>
                <a:latin typeface="Arial"/>
              </a:rPr>
              <a:t>  </a:t>
            </a: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   </a:t>
            </a: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οι γυναίκες 2 </a:t>
            </a:r>
            <a:r>
              <a:rPr b="1" lang="en-US" sz="2600" spc="-1" strike="noStrike">
                <a:solidFill>
                  <a:srgbClr val="002060"/>
                </a:solidFill>
                <a:latin typeface="Arial"/>
              </a:rPr>
              <a:t>mg/</a:t>
            </a: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μέρα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26"/>
              </a:spcBef>
              <a:buClr>
                <a:srgbClr val="a227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a22700"/>
                </a:solidFill>
                <a:latin typeface="Arial"/>
              </a:rPr>
              <a:t>Απορρόφηση:</a:t>
            </a:r>
            <a:r>
              <a:rPr b="1" lang="el-GR" sz="2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Απορροφάται με τη βοήθεια της τρανσφερίνης του εντέρου και τους υποδοχείς τρανσφερίνης-σιδήρου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Η απορρόφηση αυξάνει όταν αυξάνουν οι ανάγκες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Η τρανσφερίνη του πλάσματος μεταφέρει το σίδηρο στην κυκλοφορία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26"/>
              </a:spcBef>
              <a:buClr>
                <a:srgbClr val="a227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a22700"/>
                </a:solidFill>
                <a:latin typeface="Arial"/>
              </a:rPr>
              <a:t>Αποθήκευση:</a:t>
            </a:r>
            <a:r>
              <a:rPr b="1" lang="el-GR" sz="2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Τα επιπλέον ποσά αποθηκεύονται με τη μορφή φεριτίνης ή αιμοσιδηρίνης σε ήπαρ, σπλήνα και μυελό οστών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94920" y="115920"/>
            <a:ext cx="849636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el-GR" sz="3600" spc="-1" strike="noStrike">
                <a:solidFill>
                  <a:srgbClr val="009999"/>
                </a:solidFill>
                <a:latin typeface="Arial"/>
              </a:rPr>
              <a:t>ΚΥΚΛΟΣ ΤΟΥ ΣΙΔΗΡΟ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3" descr="3"/>
          <p:cNvPicPr/>
          <p:nvPr/>
        </p:nvPicPr>
        <p:blipFill>
          <a:blip r:embed="rId1"/>
          <a:stretch/>
        </p:blipFill>
        <p:spPr>
          <a:xfrm>
            <a:off x="2124000" y="765000"/>
            <a:ext cx="4608720" cy="59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009999"/>
                </a:solidFill>
                <a:latin typeface="Arial"/>
              </a:rPr>
              <a:t>ΤΑΧΥΤΗΤΑ ΚΑΘΙΖΗΣΗΣ ΕΡΥΘΡΩ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125000"/>
            <a:ext cx="896472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26"/>
              </a:spcBef>
              <a:spcAft>
                <a:spcPts val="975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2060"/>
                </a:solidFill>
                <a:latin typeface="Arial"/>
              </a:rPr>
              <a:t>Σε μια κάθετη στήλη αίματος με αντιπηκτικό τα ερυθρά πέφτουν αργά προς τα κάτω, αφήνοντας από πάνω το πλάσμα. Ο ρυθμός καθίζησης αυξάνεται σε ορισμένα νοσήματα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26"/>
              </a:spcBef>
              <a:spcAft>
                <a:spcPts val="975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2060"/>
                </a:solidFill>
                <a:latin typeface="Arial"/>
              </a:rPr>
              <a:t>Για το λόγο αυτό, η ταχύτητα καθίζησης ερυθρών (ΤΚΕ) αποτελεί συνήθη εργαστηριακή  εξέταση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26"/>
              </a:spcBef>
              <a:spcAft>
                <a:spcPts val="975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2060"/>
                </a:solidFill>
                <a:latin typeface="Arial"/>
              </a:rPr>
              <a:t>ΦΤ: 5-10 </a:t>
            </a:r>
            <a:r>
              <a:rPr b="0" lang="en-US" sz="2600" spc="-1" strike="noStrike">
                <a:solidFill>
                  <a:srgbClr val="002060"/>
                </a:solidFill>
                <a:latin typeface="Arial"/>
              </a:rPr>
              <a:t>mm/h</a:t>
            </a:r>
            <a:r>
              <a:rPr b="0" lang="el-GR" sz="2600" spc="-1" strike="noStrike">
                <a:solidFill>
                  <a:srgbClr val="002060"/>
                </a:solidFill>
                <a:latin typeface="Arial"/>
              </a:rPr>
              <a:t>. (Σε εγκυμοσύνη περισσότερο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26"/>
              </a:spcBef>
              <a:spcAft>
                <a:spcPts val="975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2060"/>
                </a:solidFill>
                <a:latin typeface="Arial"/>
              </a:rPr>
              <a:t>Αυξημένες τιμές ΤΚΕ συνδέονται με αύξηση ανοσοσφαιρινών, που ευνοούν τη δημιουργία συσσωμάτων, που καθιζάνουν ταχύτερα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77240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009999"/>
                </a:solidFill>
                <a:latin typeface="Arial"/>
              </a:rPr>
              <a:t>ΚΑΤΑΣΤΡΟΦΗ ΕΡΥΘΡΟΚΥΤΤΑΡΩ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324000" y="1773360"/>
            <a:ext cx="88200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42880" indent="-357120">
              <a:lnSpc>
                <a:spcPct val="90000"/>
              </a:lnSpc>
              <a:spcBef>
                <a:spcPts val="649"/>
              </a:spcBef>
              <a:spcAft>
                <a:spcPts val="1199"/>
              </a:spcAft>
              <a:buClr>
                <a:srgbClr val="a227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a22700"/>
                </a:solidFill>
                <a:latin typeface="Arial"/>
              </a:rPr>
              <a:t>Μέσος όρος ζωής:</a:t>
            </a:r>
            <a:r>
              <a:rPr b="1" lang="el-GR" sz="2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120 ημέρε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42880" indent="-357120">
              <a:lnSpc>
                <a:spcPct val="90000"/>
              </a:lnSpc>
              <a:spcBef>
                <a:spcPts val="649"/>
              </a:spcBef>
              <a:spcAft>
                <a:spcPts val="1199"/>
              </a:spcAft>
              <a:buClr>
                <a:srgbClr val="a227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a22700"/>
                </a:solidFill>
                <a:latin typeface="Arial"/>
              </a:rPr>
              <a:t>Καταστροφή:</a:t>
            </a:r>
            <a:r>
              <a:rPr b="1" lang="el-GR" sz="2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στο σπλήνα και το ήπαρ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42880" indent="-357120">
              <a:lnSpc>
                <a:spcPct val="90000"/>
              </a:lnSpc>
              <a:spcBef>
                <a:spcPts val="649"/>
              </a:spcBef>
              <a:spcAft>
                <a:spcPts val="1199"/>
              </a:spcAft>
              <a:buClr>
                <a:srgbClr val="a227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a22700"/>
                </a:solidFill>
                <a:latin typeface="Arial"/>
              </a:rPr>
              <a:t>Φαγοκύτταρα του ΔΕΣ:</a:t>
            </a:r>
            <a:r>
              <a:rPr b="1" lang="el-GR" sz="2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αποδομούν την αιμοσφαιρίνη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42880" indent="-357120">
              <a:lnSpc>
                <a:spcPct val="90000"/>
              </a:lnSpc>
              <a:spcBef>
                <a:spcPts val="649"/>
              </a:spcBef>
              <a:spcAft>
                <a:spcPts val="1199"/>
              </a:spcAft>
              <a:buClr>
                <a:srgbClr val="a227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a22700"/>
                </a:solidFill>
                <a:latin typeface="Arial"/>
              </a:rPr>
              <a:t>Ο σίδηρος της αίμης</a:t>
            </a:r>
            <a:r>
              <a:rPr b="1" lang="el-GR" sz="2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ανακυκλώνεται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42880" indent="-357120">
              <a:lnSpc>
                <a:spcPct val="90000"/>
              </a:lnSpc>
              <a:spcBef>
                <a:spcPts val="649"/>
              </a:spcBef>
              <a:spcAft>
                <a:spcPts val="1199"/>
              </a:spcAft>
              <a:buClr>
                <a:srgbClr val="a227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a22700"/>
                </a:solidFill>
                <a:latin typeface="Arial"/>
              </a:rPr>
              <a:t>Τα αμινοξέα της σφαιρίνης</a:t>
            </a:r>
            <a:r>
              <a:rPr b="1" lang="el-GR" sz="2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ανακυκλώνονται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42880" indent="-357120">
              <a:lnSpc>
                <a:spcPct val="90000"/>
              </a:lnSpc>
              <a:spcBef>
                <a:spcPts val="649"/>
              </a:spcBef>
              <a:spcAft>
                <a:spcPts val="1199"/>
              </a:spcAft>
              <a:buClr>
                <a:srgbClr val="a227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a22700"/>
                </a:solidFill>
                <a:latin typeface="Arial"/>
              </a:rPr>
              <a:t>Οι δακτύλιοι πορφυρίνης</a:t>
            </a:r>
            <a:r>
              <a:rPr b="1" lang="el-GR" sz="2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γίνονται χολερυθρίνη (αποβολή μέσω χολής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84960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el-GR" sz="3600" spc="-1" strike="noStrike">
                <a:solidFill>
                  <a:srgbClr val="009999"/>
                </a:solidFill>
                <a:latin typeface="Arial"/>
              </a:rPr>
              <a:t>ΚΑΤΑΣΤΡΟΦΗ ΕΡΥΘΡΩ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4" descr=""/>
          <p:cNvPicPr/>
          <p:nvPr/>
        </p:nvPicPr>
        <p:blipFill>
          <a:blip r:embed="rId1"/>
          <a:srcRect l="0" t="2691" r="0" b="0"/>
          <a:stretch/>
        </p:blipFill>
        <p:spPr>
          <a:xfrm>
            <a:off x="857160" y="928800"/>
            <a:ext cx="7620120" cy="58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Ορθογώνιο 1"/>
          <p:cNvSpPr/>
          <p:nvPr/>
        </p:nvSpPr>
        <p:spPr>
          <a:xfrm>
            <a:off x="611280" y="115920"/>
            <a:ext cx="8424720" cy="56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009999"/>
                </a:solidFill>
                <a:latin typeface="Arial"/>
              </a:rPr>
              <a:t>ΔΙΑΤΑΡΑΧΕΣ ΕΡΥΘΡΩ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ff0000"/>
                </a:solidFill>
                <a:latin typeface="Arial"/>
              </a:rPr>
              <a:t>Αναιμία:</a:t>
            </a:r>
            <a:r>
              <a:rPr b="0" lang="el-GR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l-GR" sz="2800" spc="-1" strike="noStrike">
                <a:solidFill>
                  <a:srgbClr val="002060"/>
                </a:solidFill>
                <a:latin typeface="Arial"/>
              </a:rPr>
              <a:t>ελάττωση του Hct και της αιμοσφαιρίνης (♀&lt;12g/dl, ♂&lt;13g/dl), λόγω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el-GR" sz="2800" spc="-1" strike="noStrike">
                <a:solidFill>
                  <a:srgbClr val="002060"/>
                </a:solidFill>
                <a:latin typeface="Arial"/>
              </a:rPr>
              <a:t>- Μείωσης της παραγωγής ερυθρών στο μυελ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el-GR" sz="2800" spc="-1" strike="noStrike">
                <a:solidFill>
                  <a:srgbClr val="002060"/>
                </a:solidFill>
                <a:latin typeface="Arial"/>
              </a:rPr>
              <a:t>- Μειωμένης επιβίωσης των ερυθρών (μη αποδοτική ερυθροποίηση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el-GR" sz="2800" spc="-1" strike="noStrike">
                <a:solidFill>
                  <a:srgbClr val="002060"/>
                </a:solidFill>
                <a:latin typeface="Arial"/>
              </a:rPr>
              <a:t>- Αύξησης της καταστροφής ερυθρών (αιμόλυση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el-GR" sz="2800" spc="-1" strike="noStrike">
                <a:solidFill>
                  <a:srgbClr val="002060"/>
                </a:solidFill>
                <a:latin typeface="Arial"/>
              </a:rPr>
              <a:t>- 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O</a:t>
            </a:r>
            <a:r>
              <a:rPr b="0" lang="el-GR" sz="2800" spc="-1" strike="noStrike">
                <a:solidFill>
                  <a:srgbClr val="002060"/>
                </a:solidFill>
                <a:latin typeface="Arial"/>
              </a:rPr>
              <a:t>ξείας ή χρόνιας απώλειας ερυθρών (αιμορραγία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el-GR" sz="2800" spc="-1" strike="noStrike">
                <a:solidFill>
                  <a:srgbClr val="002060"/>
                </a:solidFill>
                <a:latin typeface="Arial"/>
              </a:rPr>
              <a:t>- Συνδυασμού των παραπάν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009999"/>
                </a:solidFill>
                <a:latin typeface="Arial"/>
              </a:rPr>
              <a:t>ΔΙΑΤΑΡΑΧΕΣ ΕΡΥΘΡΩ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24000" y="981000"/>
            <a:ext cx="88200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l-GR" sz="2800" spc="-1" strike="noStrike">
                <a:solidFill>
                  <a:srgbClr val="ff0000"/>
                </a:solidFill>
                <a:latin typeface="Arial"/>
              </a:rPr>
              <a:t>Μειωμένη παραγωγή ερυθρών: </a:t>
            </a:r>
            <a:r>
              <a:rPr b="0" lang="el-GR" sz="2800" spc="-1" strike="noStrike">
                <a:solidFill>
                  <a:srgbClr val="002060"/>
                </a:solidFill>
                <a:latin typeface="Arial"/>
              </a:rPr>
              <a:t>Αιτίες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2060"/>
                </a:solidFill>
                <a:latin typeface="Arial"/>
              </a:rPr>
              <a:t>Διήθηση</a:t>
            </a:r>
            <a:r>
              <a:rPr b="0" lang="el-GR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l-GR" sz="2800" spc="-1" strike="noStrike">
                <a:solidFill>
                  <a:srgbClr val="002060"/>
                </a:solidFill>
                <a:latin typeface="Arial"/>
              </a:rPr>
              <a:t>μυελού από νεοπλασματικά κύτταρα (λευχαιμίες, λεμφώματα, πολλαπλούν μυέλωμα κλπ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2060"/>
                </a:solidFill>
                <a:latin typeface="Arial"/>
              </a:rPr>
              <a:t>Μυελική ίνωσ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A</a:t>
            </a:r>
            <a:r>
              <a:rPr b="0" lang="el-GR" sz="2800" spc="-1" strike="noStrike">
                <a:solidFill>
                  <a:srgbClr val="002060"/>
                </a:solidFill>
                <a:latin typeface="Arial"/>
              </a:rPr>
              <a:t>πλαστική αναιμί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2060"/>
                </a:solidFill>
                <a:latin typeface="Arial"/>
              </a:rPr>
              <a:t>Τροφικές διαταραχές (έλλειψη Β12, φυλλικού, F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2060"/>
                </a:solidFill>
                <a:latin typeface="Arial"/>
              </a:rPr>
              <a:t>Ακτινοβόληση μυελο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2060"/>
                </a:solidFill>
                <a:latin typeface="Arial"/>
              </a:rPr>
              <a:t>Μειωμένη παραγωγή ερυθροποιητίνης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 (</a:t>
            </a:r>
            <a:r>
              <a:rPr b="0" lang="el-GR" sz="2800" spc="-1" strike="noStrike">
                <a:solidFill>
                  <a:srgbClr val="002060"/>
                </a:solidFill>
                <a:latin typeface="Arial"/>
              </a:rPr>
              <a:t>ΧΝΑ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2060"/>
                </a:solidFill>
                <a:latin typeface="Arial"/>
              </a:rPr>
              <a:t>Θυρεοειδοπάθειε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9999"/>
                </a:solidFill>
                <a:latin typeface="Arial"/>
              </a:rPr>
              <a:t>ΤΟ ΑΙΜ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2060"/>
                </a:solidFill>
                <a:latin typeface="Arial"/>
              </a:rPr>
              <a:t>Ρευστός ιστό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2060"/>
                </a:solidFill>
                <a:latin typeface="Arial"/>
              </a:rPr>
              <a:t>Μεταφέρεται μέσα στα αγγε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2060"/>
                </a:solidFill>
                <a:latin typeface="Arial"/>
              </a:rPr>
              <a:t>Είναι εναιώρημα έμμορφων στοιχείων μέσα στο πλάσμα (άμορφο συστατικό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2060"/>
                </a:solidFill>
                <a:latin typeface="Arial"/>
              </a:rPr>
              <a:t>Αποτελεί το7% του ανθρώπινου βάρους (70</a:t>
            </a: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ml/k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009999"/>
                </a:solidFill>
                <a:latin typeface="Arial"/>
              </a:rPr>
              <a:t>ΔΙΑΤΑΡΑΧΕΣ ΕΡΥΘΡΩ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856944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220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l-GR" sz="2800" spc="-1" strike="noStrike">
                <a:solidFill>
                  <a:srgbClr val="ff0000"/>
                </a:solidFill>
                <a:latin typeface="Arial"/>
              </a:rPr>
              <a:t>Αιμόλυση</a:t>
            </a:r>
            <a:r>
              <a:rPr b="0" lang="el-GR" sz="2800" spc="-1" strike="noStrike">
                <a:solidFill>
                  <a:srgbClr val="002060"/>
                </a:solidFill>
                <a:latin typeface="Arial"/>
              </a:rPr>
              <a:t>: καταστροφή των ερυθρών ενδοαγγειακά ή εξωαγγειακά (ΔΕΣ), λόγω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220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220680">
              <a:spcBef>
                <a:spcPts val="700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2060"/>
                </a:solidFill>
                <a:latin typeface="Arial"/>
              </a:rPr>
              <a:t>Ενδο-ερυθροκυτταρικής αιτία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220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2060"/>
                </a:solidFill>
                <a:latin typeface="Arial"/>
              </a:rPr>
              <a:t>   </a:t>
            </a:r>
            <a:r>
              <a:rPr b="0" lang="el-GR" sz="2800" spc="-1" strike="noStrike">
                <a:solidFill>
                  <a:srgbClr val="002060"/>
                </a:solidFill>
                <a:latin typeface="Arial"/>
              </a:rPr>
              <a:t>(αιμοσφαιρινοπάθειες, μεμβρανοπάθειες, ενζυμοπάθειες, έλλειψη 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G6PD,</a:t>
            </a:r>
            <a:r>
              <a:rPr b="0" lang="el-GR" sz="2800" spc="-1" strike="noStrike">
                <a:solidFill>
                  <a:srgbClr val="002060"/>
                </a:solidFill>
                <a:latin typeface="Arial"/>
              </a:rPr>
              <a:t> κλπ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220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220680">
              <a:spcBef>
                <a:spcPts val="700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2060"/>
                </a:solidFill>
                <a:latin typeface="Arial"/>
              </a:rPr>
              <a:t>Εξω-ερυθροκυτταρικής αιτία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0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2060"/>
                </a:solidFill>
                <a:latin typeface="Arial"/>
              </a:rPr>
              <a:t>(αυτοάνοση αιμολυτική αναιμία, αλλοάνοση αιμολυτική αναιμία, από φάρμακα και χημικές ουσίες,φυτικά και ζωικά δηλητήρια, μηχανικού τύπου αιμόλυση κλπ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30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30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220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2"/>
          <p:cNvSpPr/>
          <p:nvPr/>
        </p:nvSpPr>
        <p:spPr>
          <a:xfrm>
            <a:off x="755640" y="189000"/>
            <a:ext cx="77724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9999"/>
                </a:solidFill>
                <a:latin typeface="Arial"/>
              </a:rPr>
              <a:t>ΛΕΙΤΟΥΡΓΙΕΣ ΤΟΥ ΑΙΜΑΤΟ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2"/>
          <p:cNvSpPr/>
          <p:nvPr/>
        </p:nvSpPr>
        <p:spPr>
          <a:xfrm>
            <a:off x="179280" y="1125360"/>
            <a:ext cx="8713800" cy="65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 algn="just">
              <a:spcBef>
                <a:spcPts val="649"/>
              </a:spcBef>
              <a:spcAft>
                <a:spcPts val="814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2060"/>
                </a:solidFill>
                <a:latin typeface="Arial"/>
              </a:rPr>
              <a:t>Μεταφορά Ο</a:t>
            </a:r>
            <a:r>
              <a:rPr b="0" lang="el-GR" sz="2600" spc="-1" strike="noStrike" baseline="-25000">
                <a:solidFill>
                  <a:srgbClr val="002060"/>
                </a:solidFill>
                <a:latin typeface="Arial"/>
              </a:rPr>
              <a:t>2</a:t>
            </a:r>
            <a:r>
              <a:rPr b="0" lang="el-GR" sz="2600" spc="-1" strike="noStrike">
                <a:solidFill>
                  <a:srgbClr val="002060"/>
                </a:solidFill>
                <a:latin typeface="Arial"/>
              </a:rPr>
              <a:t> και θρεπτικών ουσιών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 algn="just">
              <a:spcBef>
                <a:spcPts val="649"/>
              </a:spcBef>
              <a:spcAft>
                <a:spcPts val="814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2060"/>
                </a:solidFill>
                <a:latin typeface="Arial"/>
              </a:rPr>
              <a:t>Μεταφορά CO</a:t>
            </a:r>
            <a:r>
              <a:rPr b="0" lang="el-GR" sz="2600" spc="-1" strike="noStrike" baseline="-25000">
                <a:solidFill>
                  <a:srgbClr val="002060"/>
                </a:solidFill>
                <a:latin typeface="Arial"/>
              </a:rPr>
              <a:t>2</a:t>
            </a:r>
            <a:r>
              <a:rPr b="0" lang="el-GR" sz="2600" spc="-1" strike="noStrike">
                <a:solidFill>
                  <a:srgbClr val="002060"/>
                </a:solidFill>
                <a:latin typeface="Arial"/>
              </a:rPr>
              <a:t> και αζωτ. προϊόντων μεταβολισμού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 algn="just">
              <a:spcBef>
                <a:spcPts val="649"/>
              </a:spcBef>
              <a:spcAft>
                <a:spcPts val="814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2060"/>
                </a:solidFill>
                <a:latin typeface="Arial"/>
              </a:rPr>
              <a:t>Μεταφορά αντισωμάτων, παραγόντων της πήξης του αίματος, καθώς και διαφόρων άλλων μορίων (π.χ. ορμόνες, βιταμίνες, ιχνοστοιχεία κλπ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 algn="just">
              <a:spcBef>
                <a:spcPts val="649"/>
              </a:spcBef>
              <a:spcAft>
                <a:spcPts val="814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2060"/>
                </a:solidFill>
                <a:latin typeface="Arial"/>
              </a:rPr>
              <a:t>Συμμετοχή στη ρύθμιση της θερμοκρασίας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 algn="just">
              <a:spcBef>
                <a:spcPts val="649"/>
              </a:spcBef>
              <a:spcAft>
                <a:spcPts val="814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2060"/>
                </a:solidFill>
                <a:latin typeface="Arial"/>
              </a:rPr>
              <a:t>Συμμετοχή στη ρύθμιση της οξεοβασικής ισορροπία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 algn="just">
              <a:spcBef>
                <a:spcPts val="649"/>
              </a:spcBef>
              <a:spcAft>
                <a:spcPts val="814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2060"/>
                </a:solidFill>
                <a:latin typeface="Arial"/>
              </a:rPr>
              <a:t>Συμμετοχή στη ρύθμιση της οσμωτικής ισορροπία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spcBef>
                <a:spcPts val="649"/>
              </a:spcBef>
              <a:spcAft>
                <a:spcPts val="814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2060"/>
                </a:solidFill>
                <a:latin typeface="Arial"/>
              </a:rPr>
              <a:t>Συμμετοχή στην άμυνα του οργανισμού (λευκοκύτταρα, μεταφορά αντισωμάτων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 algn="just">
              <a:spcBef>
                <a:spcPts val="649"/>
              </a:spcBef>
              <a:spcAft>
                <a:spcPts val="814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2060"/>
                </a:solidFill>
                <a:latin typeface="Arial"/>
              </a:rPr>
              <a:t>Έλεγχος της αιμόσταση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5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77240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9999"/>
                </a:solidFill>
                <a:latin typeface="Arial"/>
              </a:rPr>
              <a:t>ΟΓΚΟΣ ΤΟΥ ΑΙΜΑΤΟ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324000" y="1773360"/>
            <a:ext cx="84960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70 </a:t>
            </a: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ml/kgr </a:t>
            </a: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βάρους σώματο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Δηλαδή σε ένα ενήλικα 70 </a:t>
            </a: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kgr </a:t>
            </a: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είναι περίπου 5 </a:t>
            </a: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l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77240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9999"/>
                </a:solidFill>
                <a:latin typeface="Arial"/>
              </a:rPr>
              <a:t>ΣΥΣΤΑΤΙΚΑ ΤΟΥ ΑΙΜΑΤΟ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24000" y="1773360"/>
            <a:ext cx="849600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l-GR" sz="32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66" name="Picture 4" descr="1"/>
          <p:cNvPicPr/>
          <p:nvPr/>
        </p:nvPicPr>
        <p:blipFill>
          <a:blip r:embed="rId1"/>
          <a:stretch/>
        </p:blipFill>
        <p:spPr>
          <a:xfrm>
            <a:off x="3305160" y="1393920"/>
            <a:ext cx="3402000" cy="54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77240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9999"/>
                </a:solidFill>
                <a:latin typeface="Arial"/>
              </a:rPr>
              <a:t>ΣΥΣΤΑΤΙΚΑ ΤΟΥ ΑΙΜΑΤΟ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324000" y="1557360"/>
            <a:ext cx="84960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786040" indent="0">
              <a:spcBef>
                <a:spcPts val="601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Βρίσκονται στο πλάσμ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86040" indent="0">
              <a:spcBef>
                <a:spcPts val="601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  </a:t>
            </a: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- Αλβουμίν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86040" indent="0">
              <a:spcBef>
                <a:spcPts val="601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  </a:t>
            </a: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- Σφαιρίνε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86040" indent="0">
              <a:spcBef>
                <a:spcPts val="601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  </a:t>
            </a: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- Ινωδογόν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86040" indent="0">
              <a:spcBef>
                <a:spcPts val="799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8604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Ερυθροκύτταρ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8604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Λευκοκύτταρ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8604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Αιμοπετάλι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86040" indent="0" algn="ctr">
              <a:spcBef>
                <a:spcPts val="601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4"/>
          <p:cNvSpPr/>
          <p:nvPr/>
        </p:nvSpPr>
        <p:spPr>
          <a:xfrm>
            <a:off x="1116000" y="1700280"/>
            <a:ext cx="1511280" cy="431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cc3300"/>
                </a:solidFill>
                <a:latin typeface="Arial"/>
              </a:rPr>
              <a:t>ΟΥΣΙΕ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5"/>
          <p:cNvSpPr/>
          <p:nvPr/>
        </p:nvSpPr>
        <p:spPr>
          <a:xfrm>
            <a:off x="1187280" y="3933720"/>
            <a:ext cx="1584360" cy="432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cc3300"/>
                </a:solidFill>
                <a:latin typeface="Arial"/>
              </a:rPr>
              <a:t>ΚΥΤΤΑΡ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8T16:00:50Z</dcterms:created>
  <dc:creator>a</dc:creator>
  <dc:description/>
  <dc:language>en-US</dc:language>
  <cp:lastModifiedBy>Χρήστος</cp:lastModifiedBy>
  <dcterms:modified xsi:type="dcterms:W3CDTF">2015-03-05T06:19:35Z</dcterms:modified>
  <cp:revision>52</cp:revision>
  <dc:subject/>
  <dc:title>ΗΛΕΚΤΡΙΚΑ ΣΗΜΑΤΑ ΚΑΙ ΔΙΕΓΕΡΣΙΜΑ ΚΥΤΤΑΡΑ</dc:title>
</cp:coreProperties>
</file>